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D08-1B0D-474C-96F3-2C0757EB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7F9-7EA7-4BF5-B9FF-BD13336F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4F61E-8A62-4007-9341-387D713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7D762-E3B4-4200-AD98-D502A346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56D2E-0873-42E1-BD2B-9A0CD5AF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4BCD7-44F4-47F8-8A2B-B6C4E6B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3CFA0-2777-48C2-8B87-A76E1A7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D3811-5F08-4AC6-8C07-AA8EB74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22884-9504-45DD-8B6E-AF1BF61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79467-B08B-4F00-8624-A44A96A7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048F7-0D59-4354-BB7E-D8324B42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7DC-E91C-4590-8930-9207FCD6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BD0-A586-4DD5-8CED-1736EC5D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961B-7F34-4AD9-AC61-31AB4202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21B1-CCFA-41F5-92A4-3602EB13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D9E7-3B36-4EB7-8042-B41AAC1C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3962-3FA3-437A-9CBC-F08E917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759-B054-4542-85ED-6E14479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2F4-5539-4CB8-9D07-79C353E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BFCD-D022-4058-B8F5-F03FC89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C6C-572A-4D0E-AB8C-8ADC06DB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503A-ADBE-4515-92EB-DC91333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B8C6-E8F5-437A-AA68-7455AA6E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B130-260F-4404-9878-1259A902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3CE0-253A-4865-9B4B-62AA0503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C0CE-415B-4932-94A5-0A2B4AD1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5FD2-382F-4FC8-A67B-62AB8535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DBE7-07A0-468D-9574-7533F959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02B4-359B-4461-A5BA-547DC05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0FA6-6272-4B80-B7E9-F0985D5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6AF8-016E-4E84-A832-3DC6786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123-CA07-4626-8841-154E22F6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7E21-7AA3-42D4-8AD6-AE9D1D6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62AC-6920-4BFB-A365-638825C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21E7-3214-4BB8-8465-85FC7422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4530-C39B-4934-BFF7-CBF9D428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1649-40A9-494E-907F-23314932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DE4E-11DF-4E22-919B-A06D43E5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68ED-4A69-45A6-B004-04392A1A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E44A-BD61-4293-A8B3-86299F5E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6490B-8431-4643-A076-C5AB3DB4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9831-0EBC-49AC-B794-D39D1880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073-175F-41C4-8C3D-9D9FB98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38682-6A22-4377-BDA4-AB614D73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EB3A-8EED-409E-B425-2EF288B2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A4F6-A828-4E46-B8DD-BA89B57C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E51F6-2E63-4167-BDF6-F448B7E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0BE1-07B7-402B-B1F7-77B8DE6D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962C-8BAC-4717-BDF3-875A594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5BAC-D597-4EED-9F4A-7E5D995C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9DB9-A3E6-444D-AAD0-E51BFDDA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F538-9ABF-48CB-9F60-DDECC240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9D7A-5F23-4E67-9775-08183CCC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E1C-D3DF-4B5F-8D50-BFF4CA56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B759C-1AF6-4709-B904-96D97083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108A-7411-4596-B245-C5CABF5C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2D58-E2CF-4C67-82AA-71897303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EE74-EC65-4F21-BF6E-7D3515FB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FED5-E195-495A-843B-93835FB1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AF736-81FE-4627-B675-EF0DCA9F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5156-A006-4E8C-8F82-2D57713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6CDC0-8612-4D8E-9CAD-1991888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80FF-7C2C-4508-9C54-9A9E52C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A3072-1ABF-4022-A503-99A522FF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646-5ED0-4DB8-918B-CA0A55B2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EAB8-47D6-4660-AABC-996E90B1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589C-4F2D-45C1-AD83-82660033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4D90-0EA2-44E9-A844-A829CBB5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81C9-7BED-4A67-9726-F91A95D8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BCD90-CAF4-4EAC-B09E-377D06CF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37F9D-D2EE-4099-9F76-E8DBD4A5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BBD5E-2934-4365-8676-8F9C5D8E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8D99-ADE0-4767-AF17-436F176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DF74-D89A-457F-9645-D2084213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1AA5-8FF6-40E9-AFCC-547578F9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5E2-BA48-49A9-A7C7-A62C8DC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BF04-21F0-4A5C-A70B-BD46AF84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948CC-8B22-476F-8422-C4DF3F9C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5DFC-4CF6-4F13-ACB2-89A7D4C6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F34D-29A1-4A1E-A4FC-3DD72ACD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4AA2F-9E2D-40FD-87CA-254739B7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FFFCC-C5BB-4669-9DBD-CF7D12A0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2A8CA-EC43-4151-88E0-D1876B16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D9406-455B-45A6-B2EC-C8A22C07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4A9D-35DD-490F-8291-36527AAC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3163C-FF21-40F3-B86A-6948BEA9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3E6-4469-4A7C-988F-4904E27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BDE1-4E22-4E37-8A1C-99C5F29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2FFA1-B2A6-4AAF-8D70-6C37229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5B2FE-ACFB-466D-B7ED-C168558E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6C38E-EE03-42B5-9427-6850B1A7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0F4E-E3EE-4E55-9851-4FE013CB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0AA9-C315-414F-8C96-25EBBB8A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E211-319C-483F-8A79-0BE58A3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5A00A-18C9-494D-B0AC-29A89BB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D320-7ABA-4EA6-9113-4701060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657C0-B79C-4D74-949C-CA07F790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B6A-87D4-4B76-B68A-689264E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705CF-6B22-4F35-909D-EDF49AD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9708-7160-48B3-BB85-5B1E8780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8F47D-1C4D-4912-A8DA-CFCA0B3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EDD89-6F05-4ADD-B846-6D1A454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6D91-06FD-4777-BA0F-85BD461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FC1A5-6337-42CB-9B0B-AE243C6E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B507-74F6-4EF3-9BE4-0E055558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829F4-A359-453A-A6DA-07BB865B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A0C84-8503-4E0E-89CA-789D765A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34029-EF0C-4B3C-B4DD-5E5E617C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2E39-59EB-434F-95CF-A0899F2BC6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9C2-C708-420B-8A21-BBEC1A48A2A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082-DC80-45E8-9006-674A747642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42CA-B566-4655-AF9E-061F86A0F4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A19E-4205-4361-B4D6-1420684A12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596B-A60A-428A-99E8-942C64E00E0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1315-9BC6-4A78-8A3A-B68F4C57D4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24C8-5584-4808-BD39-53EC6A4129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8DA2-E960-4A8D-B0FF-50AB01607A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143400" y="4071960"/>
            <a:ext cx="2786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Franklin Gothic Book"/>
              </a:rPr>
              <a:t>Презентация ученицы 9 класса 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Franklin Gothic Book"/>
              </a:rPr>
              <a:t>МКОУ «СОШ» с.п.Приречное Зольского муниципального района КБР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Franklin Gothic Book"/>
              </a:rPr>
              <a:t>Хашхожевой Дарины Зауровн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214200" y="28584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Муниципальный этап районного кон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«Ученик года 202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285920" y="10717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642960" y="150012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«Путь к побе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5" descr=""/>
          <p:cNvPicPr/>
          <p:nvPr/>
        </p:nvPicPr>
        <p:blipFill>
          <a:blip r:embed="rId1"/>
          <a:stretch/>
        </p:blipFill>
        <p:spPr>
          <a:xfrm>
            <a:off x="2000160" y="2071800"/>
            <a:ext cx="3765600" cy="30002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6"/>
          <p:cNvSpPr/>
          <p:nvPr/>
        </p:nvSpPr>
        <p:spPr>
          <a:xfrm>
            <a:off x="5500800" y="5429160"/>
            <a:ext cx="314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Руководитель: Хашхожева Фатимат Мухамедовна, заместитель директора по воспитатель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3500280" y="62866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с.п. Приречное 202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Содержимое 6" descr="Конный завод ПРИНТ (1).jpg"/>
          <p:cNvPicPr/>
          <p:nvPr/>
        </p:nvPicPr>
        <p:blipFill>
          <a:blip r:embed="rId2"/>
          <a:stretch/>
        </p:blipFill>
        <p:spPr>
          <a:xfrm>
            <a:off x="7651800" y="285840"/>
            <a:ext cx="12780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357120" y="261720"/>
            <a:ext cx="50007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Критерии оценивания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1. Удовлетворённость родителей результатом работы ОУ (созданными условиями, уровнем здоровья ребёнка, интересом ребёнка к коневодств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2. Соответствие условий обучения школьников нормам СанП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3. Информированность родителей об организации воспитательного и образовательного процесса шк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4. Достижения в конном спор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5. Пополнение и улучшение МТБ на основе сравнения МТБ на начало и конец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6. Мониторинг здоровья обучающихся и учащихся О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662280" cy="428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2"/>
          <a:stretch/>
        </p:blipFill>
        <p:spPr>
          <a:xfrm>
            <a:off x="428760" y="3286080"/>
            <a:ext cx="4618080" cy="3349800"/>
          </a:xfrm>
          <a:prstGeom prst="rect">
            <a:avLst/>
          </a:prstGeom>
          <a:ln w="0">
            <a:noFill/>
          </a:ln>
        </p:spPr>
      </p:pic>
      <p:pic>
        <p:nvPicPr>
          <p:cNvPr id="438" name="Содержимое 6" descr="Конный завод ПРИНТ (1).jpg"/>
          <p:cNvPicPr/>
          <p:nvPr/>
        </p:nvPicPr>
        <p:blipFill>
          <a:blip r:embed="rId3"/>
          <a:stretch/>
        </p:blipFill>
        <p:spPr>
          <a:xfrm>
            <a:off x="7215120" y="285840"/>
            <a:ext cx="171468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Содержимое 9" descr="DSC098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2"/>
          <p:cNvSpPr/>
          <p:nvPr/>
        </p:nvSpPr>
        <p:spPr>
          <a:xfrm>
            <a:off x="571680" y="1000080"/>
            <a:ext cx="8286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ект должен стать мощным импульсом к развитию творческой инициативы педагогических коллективов, занимающихся проблемами по оздоровлению детей  иппотерап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ект поможет привлечь внимание общественности к отечественному коневодству, сделает конный спорт популярным среди молодежи, обратит внимание на развитие коневодства как важнейшей отрасли сельского хозяйства  и на сохранение  кабардинской породы лошадей как одну из самых важных отечественных пород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целом даст толчок для дальнейшего развития коневодства и  лечения больных детей  в будущем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Ещё проект поможет устранить целый ряд вопросов, связанных с духовно- нравственным и трудовым воспитанием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ект в дальнейшем может быть продолжен при положительном оценивании  и отзывах по результатам проведения монитори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"/>
          <p:cNvSpPr/>
          <p:nvPr/>
        </p:nvSpPr>
        <p:spPr>
          <a:xfrm>
            <a:off x="2857680" y="955440"/>
            <a:ext cx="57862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Список использова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1. Архивные докумен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2. Воспоминания старожи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3. Брошюра «Малкинский конный завод №34» Мидов Л.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4. Материал - интервью молодых специалистов, работников конного за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5.  Исторический паспорт с.п. Приреч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6.П.Т.Гурвич. «Какие заболевания лечат верховой ездой». Журнал «Коневодство и конный спорт» №1 за 2007 г. – стр.22-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7.А.В. Смолянинов «Иппотерапия для детей». - М. Остров Надежды, 2010 г. – 90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8.Д. Спинк «Развивающая лечебная верховая езда». - МККИ, Санкт-Петербург 200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9.Исследовательская работа «Ветер в гриве», автор ученица 9 класса МКОУ «СОШ» с.п. Приречное Хашхожева Дарина Зау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Содержимое 4" descr="DSC09845.JPG"/>
          <p:cNvPicPr/>
          <p:nvPr/>
        </p:nvPicPr>
        <p:blipFill>
          <a:blip r:embed="rId2"/>
          <a:stretch/>
        </p:blipFill>
        <p:spPr>
          <a:xfrm>
            <a:off x="428760" y="642960"/>
            <a:ext cx="2109600" cy="1871640"/>
          </a:xfrm>
          <a:prstGeom prst="rect">
            <a:avLst/>
          </a:prstGeom>
          <a:ln w="0">
            <a:noFill/>
          </a:ln>
        </p:spPr>
      </p:pic>
      <p:pic>
        <p:nvPicPr>
          <p:cNvPr id="444" name="Содержимое 5" descr="DSC09850.JPG"/>
          <p:cNvPicPr/>
          <p:nvPr/>
        </p:nvPicPr>
        <p:blipFill>
          <a:blip r:embed="rId3"/>
          <a:stretch/>
        </p:blipFill>
        <p:spPr>
          <a:xfrm>
            <a:off x="285840" y="2786040"/>
            <a:ext cx="2181240" cy="1714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4"/>
          <a:stretch/>
        </p:blipFill>
        <p:spPr>
          <a:xfrm>
            <a:off x="357120" y="4714920"/>
            <a:ext cx="2106720" cy="1714320"/>
          </a:xfrm>
          <a:prstGeom prst="rect">
            <a:avLst/>
          </a:prstGeom>
          <a:ln w="0">
            <a:noFill/>
          </a:ln>
        </p:spPr>
      </p:pic>
      <p:pic>
        <p:nvPicPr>
          <p:cNvPr id="446" name="Содержимое 6" descr="Конный завод ПРИНТ (1).jpg"/>
          <p:cNvPicPr/>
          <p:nvPr/>
        </p:nvPicPr>
        <p:blipFill>
          <a:blip r:embed="rId5"/>
          <a:stretch/>
        </p:blipFill>
        <p:spPr>
          <a:xfrm>
            <a:off x="7651800" y="285840"/>
            <a:ext cx="12780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Содержимое 4" descr="DSC09845.JPG"/>
          <p:cNvPicPr/>
          <p:nvPr/>
        </p:nvPicPr>
        <p:blipFill>
          <a:blip r:embed="rId1"/>
          <a:stretch/>
        </p:blipFill>
        <p:spPr>
          <a:xfrm>
            <a:off x="-109440" y="0"/>
            <a:ext cx="925344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6143760" y="4214880"/>
            <a:ext cx="2765160" cy="241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</p:pic>
      <p:pic>
        <p:nvPicPr>
          <p:cNvPr id="449" name="Содержимое 6" descr="Конный завод ПРИНТ (1).jpg"/>
          <p:cNvPicPr/>
          <p:nvPr/>
        </p:nvPicPr>
        <p:blipFill>
          <a:blip r:embed="rId3"/>
          <a:stretch/>
        </p:blipFill>
        <p:spPr>
          <a:xfrm>
            <a:off x="7286760" y="214200"/>
            <a:ext cx="1617480" cy="15066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4"/>
          <a:stretch/>
        </p:blipFill>
        <p:spPr>
          <a:xfrm>
            <a:off x="214200" y="2766960"/>
            <a:ext cx="3000600" cy="37022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6"/>
          <p:cNvSpPr/>
          <p:nvPr/>
        </p:nvSpPr>
        <p:spPr>
          <a:xfrm>
            <a:off x="1928880" y="121428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1"/>
          <p:cNvSpPr/>
          <p:nvPr/>
        </p:nvSpPr>
        <p:spPr>
          <a:xfrm>
            <a:off x="285840" y="1437480"/>
            <a:ext cx="31431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Секрет эффективности иппотерапии объясняется в первую очередь притягательностью и мощной энергетикой лошади - друга и помощника человека на протяжении нескольких тысячелетий. Ребенку-инвалиду, лишенному многих радостей жизни, полезно даже просто покататься верхом. Но для полноценной реабилитации этого недостаточно. Иппотерапевты ставят перед собой цель улучшить физическое и психоэмоциональное состояние ребенка, обучить его новым жизненным навыкам. А для этого нужна индивидуальная, последовательная и кропотлив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143240" y="1357200"/>
            <a:ext cx="4143600" cy="51120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6" descr="Конный завод ПРИНТ (1).jpg"/>
          <p:cNvPicPr/>
          <p:nvPr/>
        </p:nvPicPr>
        <p:blipFill>
          <a:blip r:embed="rId3"/>
          <a:stretch/>
        </p:blipFill>
        <p:spPr>
          <a:xfrm>
            <a:off x="7500960" y="214200"/>
            <a:ext cx="12780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80800" y="666720"/>
            <a:ext cx="42908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Цель проекта</a:t>
            </a: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: создание условий для улучшения коммуникативных функций и состояния здоровья детей с психологическими и физическими особенностями, развитие конного туризма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00360" y="1357200"/>
            <a:ext cx="429228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Задачи проекта: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1.Провести исследовательскую работу  по лечению заболеваний у детей иппотерапие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2.Развить иппотерапию для реабилитации детей, подверженных различным заболеваниям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3. Привлечь волонтеров к проекту и помощи детям-инвалидам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4.Привлечь к проекту спонсоров, как физических так и юридических лиц. 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5. Создать мини - музей по истории коневодства ООО «Малкинский»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6. Повысить роль коневодства и конного спорта в духовно - нравственном воспитании молодежи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Times New Roman"/>
              </a:rPr>
              <a:t>7. Разработать экскурсионно - туристический маршрут по с.п.Приречное Зольского муниципального  района КБР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2" descr="C:\Documents and Settings\Admin\Мои документы\иппотерапия\фото\SAM_3619.JPG"/>
          <p:cNvPicPr/>
          <p:nvPr/>
        </p:nvPicPr>
        <p:blipFill>
          <a:blip r:embed="rId1"/>
          <a:stretch/>
        </p:blipFill>
        <p:spPr>
          <a:xfrm>
            <a:off x="428760" y="2143080"/>
            <a:ext cx="3571920" cy="324000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6" descr="Конный завод ПРИНТ (1).jpg"/>
          <p:cNvPicPr/>
          <p:nvPr/>
        </p:nvPicPr>
        <p:blipFill>
          <a:blip r:embed="rId2"/>
          <a:stretch/>
        </p:blipFill>
        <p:spPr>
          <a:xfrm>
            <a:off x="7651800" y="285840"/>
            <a:ext cx="127800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28760" y="356760"/>
            <a:ext cx="3643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Franklin Gothic Book"/>
              </a:rPr>
              <a:t>Сроки реализации проекта: </a:t>
            </a: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3 года (с 01.03.2021 г. по 01.03.2024 г.)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Продукт реализаци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Franklin Gothic Book"/>
              </a:rPr>
              <a:t>Ожидаемый результат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Мини - музей по истории коневодства ООО «Малкински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Здоровые дети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Развитие конного спорта и туризм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Презентация проект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Публикация на интернет-сайте ОУ и в  СМИ материала  по итогам проект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4262400" y="57168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6" descr="Конный завод ПРИНТ (1).jpg"/>
          <p:cNvPicPr/>
          <p:nvPr/>
        </p:nvPicPr>
        <p:blipFill>
          <a:blip r:embed="rId2"/>
          <a:stretch/>
        </p:blipFill>
        <p:spPr>
          <a:xfrm>
            <a:off x="7651800" y="285840"/>
            <a:ext cx="127800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"/>
          <a:stretch/>
        </p:blipFill>
        <p:spPr>
          <a:xfrm>
            <a:off x="571680" y="4143240"/>
            <a:ext cx="3214440" cy="2411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"/>
          <p:cNvPicPr/>
          <p:nvPr/>
        </p:nvPicPr>
        <p:blipFill>
          <a:blip r:embed="rId4"/>
          <a:stretch/>
        </p:blipFill>
        <p:spPr>
          <a:xfrm>
            <a:off x="4000680" y="292896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571680" y="1214280"/>
          <a:ext cx="8143560" cy="1582920"/>
        </p:xfrm>
        <a:graphic>
          <a:graphicData uri="http://schemas.openxmlformats.org/drawingml/2006/table">
            <a:tbl>
              <a:tblPr/>
              <a:tblGrid>
                <a:gridCol w="671400"/>
                <a:gridCol w="3421080"/>
                <a:gridCol w="4051080"/>
              </a:tblGrid>
              <a:tr h="4870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о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готовительно-проектировочный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1 марта2021 года по 28февраля  202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ктический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01 марта 2022 года 30 марта  2023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бщающе - результативный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 01 апреля 2023 по 30  марта 202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Rectangle 1"/>
          <p:cNvSpPr/>
          <p:nvPr/>
        </p:nvSpPr>
        <p:spPr>
          <a:xfrm>
            <a:off x="571680" y="272880"/>
            <a:ext cx="56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ы реализации проекта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C:\Documents and Settings\Admin\Мои документы\иппотерапия\фото\SAM_3729.JPG"/>
          <p:cNvPicPr/>
          <p:nvPr/>
        </p:nvPicPr>
        <p:blipFill>
          <a:blip r:embed="rId1"/>
          <a:stretch/>
        </p:blipFill>
        <p:spPr>
          <a:xfrm>
            <a:off x="5000760" y="2954160"/>
            <a:ext cx="3844800" cy="3214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Мои документы\иппотерапия\фото\SAM3590.JPG"/>
          <p:cNvPicPr/>
          <p:nvPr/>
        </p:nvPicPr>
        <p:blipFill>
          <a:blip r:embed="rId2"/>
          <a:stretch/>
        </p:blipFill>
        <p:spPr>
          <a:xfrm>
            <a:off x="571680" y="2901960"/>
            <a:ext cx="3786120" cy="331308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6" descr="Конный завод ПРИНТ (1).jpg"/>
          <p:cNvPicPr/>
          <p:nvPr/>
        </p:nvPicPr>
        <p:blipFill>
          <a:blip r:embed="rId3"/>
          <a:stretch/>
        </p:blipFill>
        <p:spPr>
          <a:xfrm>
            <a:off x="7286760" y="214200"/>
            <a:ext cx="12776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3116160" y="28584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лан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428760" y="857160"/>
          <a:ext cx="8358120" cy="5707080"/>
        </p:xfrm>
        <a:graphic>
          <a:graphicData uri="http://schemas.openxmlformats.org/drawingml/2006/table">
            <a:tbl>
              <a:tblPr/>
              <a:tblGrid>
                <a:gridCol w="882360"/>
                <a:gridCol w="3410280"/>
                <a:gridCol w="2031840"/>
                <a:gridCol w="2033640"/>
              </a:tblGrid>
              <a:tr h="22392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азвание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 gridSpan="4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1 этап - Подготовительно-проектировоч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овать экскурсию в конезавод ООО «Малкинский» с целью ознакомления учащихся с историей коне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марта 2021 года по 17 марта 2021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лассные руководители О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сти беседу о полезности лошадей (демонстрация литературных изданий, иллюстраций, фотографий (в контексте воспитания в детях чувства взаимопомощи, сострадания, миролюбия и жизнеутверждения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8 марта по 30 марта 2021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Члены волонтерского отряда «Голубая плане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явить больных детей с различными заболеваниями в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 апреля по 30 апреля 202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ГБУЗ «Амбулатория» с.п. Приреч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готовка тренеров для лечения иппотерапией больных детей (кур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 апреля 2021 года по 30 апреля 202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брать копилку фотоматериалов лошадей по их породам и видам; архивного материала по истории конезавода для создания мини - муз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01 апреля 2021 по 28 февраля 20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Члены волонтерского отряда «Голубая плане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лючение договора с конезаводом ООО «Малкинский»  или с частными людьми,  которые занимаются разведением лошадей (для иппотерапии и содержания лошад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26 августа по 31 августа 202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иректор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здать схему экскурсионно – туристического маршрута по с.п. Приречное Зольского района К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 сентября по 30 октября 202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ришев З.Х., директор ООО «Малкинский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иректор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642960" y="714240"/>
          <a:ext cx="7786800" cy="5818320"/>
        </p:xfrm>
        <a:graphic>
          <a:graphicData uri="http://schemas.openxmlformats.org/drawingml/2006/table">
            <a:tbl>
              <a:tblPr/>
              <a:tblGrid>
                <a:gridCol w="822240"/>
                <a:gridCol w="3176640"/>
                <a:gridCol w="1893960"/>
                <a:gridCol w="1893960"/>
              </a:tblGrid>
              <a:tr h="271440">
                <a:tc gridSpan="4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2 этап - Практически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0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овать мини-музей по собранным материалам и  по истории отечественного коне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 марта 2022 года по 30 марта 2022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Зам.директора по 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Члены волонтерского отряда «Голубая плане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работать и оформить  сборник о лошадях, их породах, видах, об окрасах лоша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01 апреля 2022 года по 31 мая 2022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Зам. директора по 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обретение лошадей и кор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 марта 2022 по 31 мая 20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понсоры, ЦЗ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ечение больных детей иппотерап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 июня 2022 год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ренер, медработник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скурсия по маршрут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 июня 2022 год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рен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 gridSpan="4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3 этап - Обобщающе - результатив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зентация сборника о лошадях, их породах, видах, об окрасах лошадях в День Защиты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01 апреля по 30 апреля  20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Члены волонтерского отряда «Голубая плане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зам.дир.по 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публиковать на интернет-сайте ОУ и в СМИ  материалы по итогам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11 января по 11 февраля 2024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Электронник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сти мониторинг детей занимавшихся иппотерап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  1 февраля 30  марта 202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ГБУЗ «Амбулатория» с.п. Приреч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"/>
          <p:cNvSpPr/>
          <p:nvPr/>
        </p:nvSpPr>
        <p:spPr>
          <a:xfrm flipV="1" rot="10800000">
            <a:off x="642600" y="1452600"/>
            <a:ext cx="77151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Нормативно-правовые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•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Закон ФЗ №273 от 29.12.2012 г. «Об образовании в Российской федерации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•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Постановление Правительства РФ «Об утверждении Правил оказания платных образовательных услуг в сфере школьного и общего образован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•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УСТАВ 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•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СанПиНы 2.4.1.2660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•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нцепция содержания непрерывного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•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Кадровые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Для работы в проекте привлекаются индивидуальные предприниматели, работники с подсобным хозяйством по разведению лошадей, актив музея при ОУ, библиотекари, работники конезавода ООО «Малкинский», коллектив МКОУ «СОШ» с.п. Приречное, ГБУЗ «Амбулатория» с.п. Приречное, ЦЗ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По образовательному цензу коллектив проекта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Всего педагогов 27. Высшее образование 21, Средне специальное образование 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Таким образом, образовательный ценз педагогов ОУ достаточно высокий, способный организовать воспитание и образование на достаточ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По категорий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Высшая категория - 3. Первая категория - 17. Вторая категория - 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Таким образом, профессиональный уровень педагогов достаточно выс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ащиеся 7-11 клас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"/>
          <p:cNvSpPr/>
          <p:nvPr/>
        </p:nvSpPr>
        <p:spPr>
          <a:xfrm>
            <a:off x="1285920" y="285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есурсное обеспечен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Содержимое 6" descr="Конный завод ПРИНТ (1).jpg"/>
          <p:cNvPicPr/>
          <p:nvPr/>
        </p:nvPicPr>
        <p:blipFill>
          <a:blip r:embed="rId1"/>
          <a:stretch/>
        </p:blipFill>
        <p:spPr>
          <a:xfrm>
            <a:off x="7286760" y="357120"/>
            <a:ext cx="12776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1000080" y="2000160"/>
          <a:ext cx="7215120" cy="4214880"/>
        </p:xfrm>
        <a:graphic>
          <a:graphicData uri="http://schemas.openxmlformats.org/drawingml/2006/table">
            <a:tbl>
              <a:tblPr/>
              <a:tblGrid>
                <a:gridCol w="531720"/>
                <a:gridCol w="4148280"/>
                <a:gridCol w="2535120"/>
              </a:tblGrid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аименование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риентировочная стои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бумагу «Снегурочка»; папки, файлы, фотора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о 7 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ринтер; цифровой фотоаппар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о 12 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азработка экскурсионно-туристического маршру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о 30 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бучение тренеров (курсы по иппотерап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о 12 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есурсы сети Интерн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о бюджетной сме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окупка 3-х лошад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о 120 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Покупка по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коло 40000 рублей плюс транспортные расход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одержание лошад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о 240 000 рубле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Заработная плата по догов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коло 30 000 рублей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491 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Rectangle 1"/>
          <p:cNvSpPr/>
          <p:nvPr/>
        </p:nvSpPr>
        <p:spPr>
          <a:xfrm flipV="1" rot="10800000">
            <a:off x="785520" y="236880"/>
            <a:ext cx="6429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Финансов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Финансирование проекта производится за счет спонсорской помощи от организаций, ЦЗН (центр занятости насел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Вся финансово-экономическая деятельность направлена на реализацию  данного проек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Содержимое 6" descr="Конный завод ПРИНТ (1).jpg"/>
          <p:cNvPicPr/>
          <p:nvPr/>
        </p:nvPicPr>
        <p:blipFill>
          <a:blip r:embed="rId1"/>
          <a:stretch/>
        </p:blipFill>
        <p:spPr>
          <a:xfrm>
            <a:off x="7358040" y="285840"/>
            <a:ext cx="1571760" cy="142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0:02:59Z</dcterms:created>
  <dc:creator>ш</dc:creator>
  <dc:description/>
  <dc:language>en-US</dc:language>
  <cp:lastModifiedBy>Фатима</cp:lastModifiedBy>
  <dcterms:modified xsi:type="dcterms:W3CDTF">2021-05-12T06:57:03Z</dcterms:modified>
  <cp:revision>49</cp:revision>
  <dc:subject/>
  <dc:title>Слайд 1</dc:title>
</cp:coreProperties>
</file>